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9AFD-5E52-4C5A-A74A-DF8A920E1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C007-6A18-4E53-98AD-4A79A087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5B1-2168-43BD-B84A-C7261270E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92B9-D7A8-4A04-A32B-8BAE2CEF0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9B24-8199-42A0-9793-F90747E6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EA51-C086-4DB0-90AA-EDA46EFC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55C9-A209-4B7B-AD9A-5EC1B97B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17B3-DB0C-49DD-B2D9-8A3BB8141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5E11-A975-4EF1-B9EB-D75B826F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FEAB-FB8B-4CCA-B853-23AB2B44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2CBF-0CD5-4DB7-A6CF-6AA41146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750-4853-4D53-864A-A1139E4F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321C-FCA6-4EB0-8A6D-FB963199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1E5D-B5EC-46E6-B46D-ECE4D20E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F9B0-3A0B-4097-8FF1-8E81A172F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EF1A-5C9F-4C37-9EDB-C3800A815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676B6-8256-40DB-B4E7-421F155A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1358-59AB-4792-AE6E-0FE041BE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18FF-5698-41DC-B463-2B0B6705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BEE2-7265-4AB5-8B0C-56AFF251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5B7-7B0A-4F5C-943D-B7C189E9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864-3348-4D03-92E3-F590E980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E30E-32DC-4344-BD8F-7521659E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1686-4A6F-4C53-9DE9-C0C24044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3760" y="1801800"/>
            <a:ext cx="5348160" cy="5056200"/>
            <a:chOff x="3803760" y="18018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8320" y="21794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7760" y="18939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6320" y="23857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4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6040" y="55814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3800" y="24490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31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6440" y="24271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63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70560" y="28954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6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80120" y="29030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42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21480" y="29811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1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4440" y="48085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62880" y="57132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601040" y="57988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9480" y="57132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9280" y="24588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9280" y="26953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9280" y="28191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6800" y="19256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6520" y="21542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6800" y="22874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20200" y="56084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92680" y="18018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60920" y="60022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6002280" y="61592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13120" y="61592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82960" y="61056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3760" y="60991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8280" y="61405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5400" y="60260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10840" y="57322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30920" y="28270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10480" y="24652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702480" y="27795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8920" y="24397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21480" y="22683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E613-344A-4316-98C8-DD0E190C7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722C-789F-42B5-8C3F-A9CA0ABC9E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Analogy Quiz</a:t>
            </a:r>
            <a:endParaRPr b="1" lang="en-US" sz="5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By teacher or student name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dog : fur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bird :  </a:t>
            </a:r>
            <a:r>
              <a:rPr b="1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?</a:t>
            </a: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55" name="AutoShape 3">
            <a:hlinkClick r:id="rId1" action="ppaction://hlinksldjump"/>
          </p:cNvPr>
          <p:cNvSpPr/>
          <p:nvPr/>
        </p:nvSpPr>
        <p:spPr>
          <a:xfrm>
            <a:off x="3429000" y="17524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blue j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4">
            <a:hlinkClick r:id="rId2" action="ppaction://hlinksldjump"/>
          </p:cNvPr>
          <p:cNvSpPr/>
          <p:nvPr/>
        </p:nvSpPr>
        <p:spPr>
          <a:xfrm>
            <a:off x="3429000" y="35812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feat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5">
            <a:hlinkClick r:id="rId3" action="ppaction://hlinksldjump"/>
          </p:cNvPr>
          <p:cNvSpPr/>
          <p:nvPr/>
        </p:nvSpPr>
        <p:spPr>
          <a:xfrm>
            <a:off x="3429000" y="26668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3429000" y="457200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mam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8">
            <a:hlinkClick r:id="" action="ppaction://hlinkshowjump?jump=nextslide"/>
          </p:cNvPr>
          <p:cNvSpPr/>
          <p:nvPr/>
        </p:nvSpPr>
        <p:spPr>
          <a:xfrm>
            <a:off x="4495680" y="57913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80880" y="1371600"/>
            <a:ext cx="28195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s is an example slide. You can delete this sl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use this template copy and paste slide #3 as many times as needed.  On each slide type in your own analogy question at the top of the slide and type in 3 incorrect and one correct answer buttons.  Move the order of the correct answer by dragging the answer buttons into different order on the sl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705720" y="1676520"/>
            <a:ext cx="2209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 can also change the slide design and the colors by using the Format men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 the very last analogy slide you may delete the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butt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word : word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word :  </a:t>
            </a:r>
            <a:r>
              <a:rPr b="1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?</a:t>
            </a: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29000" y="17524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429000" y="35812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3429000" y="26668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3429000" y="457200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12">
            <a:hlinkClick r:id="" action="ppaction://hlinkshowjump?jump=nextslide"/>
          </p:cNvPr>
          <p:cNvSpPr/>
          <p:nvPr/>
        </p:nvSpPr>
        <p:spPr>
          <a:xfrm>
            <a:off x="4495680" y="57913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2286000" y="2133720"/>
            <a:ext cx="4896000" cy="28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r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9" name="AutoShape 5">
            <a:hlinkClick r:id="" action="ppaction://hlinkshowjump?jump=previousslide"/>
          </p:cNvPr>
          <p:cNvSpPr/>
          <p:nvPr/>
        </p:nvSpPr>
        <p:spPr>
          <a:xfrm>
            <a:off x="4495680" y="56386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2286000" y="1981080"/>
            <a:ext cx="5070600" cy="27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50000">
                      <a:srgbClr val="18472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orte"/>
              </a:rPr>
              <a:t>Correct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50000">
                    <a:srgbClr val="18472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4495680" y="54864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20:39:15Z</dcterms:created>
  <dc:creator>lnelson</dc:creator>
  <dc:description/>
  <dc:language>en-US</dc:language>
  <cp:lastModifiedBy>Karen Mixdorf</cp:lastModifiedBy>
  <dcterms:modified xsi:type="dcterms:W3CDTF">2010-03-11T20:13:42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