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7F1-08E3-43C6-8232-E598D9AE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5C0-2FF8-49AD-B21A-446F3025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ADB-A2D9-438F-B910-14BAA342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0CB-43FC-4B8C-B69E-B1BB63BB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2A64-7D30-41F9-8C49-AA5F63CA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B3B7-F6ED-4705-B859-6452DC9F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3EA0-3567-48E7-83A2-162E1DD5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9BC-ED0A-4C4A-919A-F6C48719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0FE-F0C6-4DE9-A6AB-B9EB0AE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A62B-6F88-4D12-A41D-FFBDBC28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94B-7E50-47D8-8502-4455F76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C3F-C61D-4A00-A4A7-6ABDC807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8973-EC2C-4956-AEB0-92B8C616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2CDE-F43F-48D9-80CE-BFA24CA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F247-6861-453A-BC6E-C92727AD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BF3D-AF63-4486-8417-9464EBBF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791-FDB9-498C-B882-3DDB5EB1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FE5-D9A0-48C2-A575-603762D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0C6-A947-4FF3-91A5-81C073D0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617-AFDD-4DB0-9DB5-54679351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BDB-8BF5-41F6-8CFC-8DA0B845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6B8-A36D-4BF0-920A-BF42A5D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134-0FA3-4F03-98D1-052109D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512-A310-4AD4-A1CF-BE6D791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3760" y="1801800"/>
            <a:ext cx="5348160" cy="5056200"/>
            <a:chOff x="3803760" y="18018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8320" y="21794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7760" y="18939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6320" y="23857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6040" y="5581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3800" y="24490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3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6440" y="24271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70560" y="28954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80120" y="29030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2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21480" y="29811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1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4440" y="48085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62880" y="57132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601040" y="57988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9480" y="57132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9280" y="24588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9280" y="26953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9280" y="28191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6800" y="19256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6520" y="21542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6800" y="22874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20200" y="5608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92680" y="18018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60920" y="60022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6002280" y="61592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13120" y="6159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82960" y="61056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3760" y="60991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8280" y="61405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5400" y="60260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10840" y="57322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30920" y="28270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10480" y="24652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702480" y="27795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8920" y="24397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21480" y="22683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E15C-0FD3-4F52-9FE9-C722DE541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5E1-C553-48AD-8AEB-4DEF989C2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nalogy Quiz</a:t>
            </a:r>
            <a:endParaRPr b="1" lang="en-US" sz="5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By teacher or student name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dog : fur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bi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5" name="AutoShape 3">
            <a:hlinkClick r:id="rId1" action="ppaction://hlinksldjump"/>
          </p:cNvPr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blue j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4">
            <a:hlinkClick r:id="rId2" action="ppaction://hlinksldjump"/>
          </p:cNvPr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feat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5">
            <a:hlinkClick r:id="rId3" action="ppaction://hlinksldjump"/>
          </p:cNvPr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8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80880" y="1371600"/>
            <a:ext cx="28195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s is an example slide. You can delete this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use this template copy and paste slide #3 as many times as needed.  On each slide type in your own analogy question at the top of the slide and type in 3 incorrect and one correct answer buttons.  Move the order of the correct answer by dragging the answer buttons into different order on the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705720" y="1676520"/>
            <a:ext cx="2209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can also change the slide design and the colors by using the Format men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 the very last analogy slide you may delete the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butt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word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12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2286000" y="2133720"/>
            <a:ext cx="4896000" cy="28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r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9" name="AutoShape 5">
            <a:hlinkClick r:id="" action="ppaction://hlinkshowjump?jump=previousslide"/>
          </p:cNvPr>
          <p:cNvSpPr/>
          <p:nvPr/>
        </p:nvSpPr>
        <p:spPr>
          <a:xfrm>
            <a:off x="4495680" y="56386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2286000" y="1981080"/>
            <a:ext cx="5070600" cy="27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50000">
                      <a:srgbClr val="18472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orte"/>
              </a:rPr>
              <a:t>Correc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50000">
                    <a:srgbClr val="18472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4495680" y="54864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20:39:15Z</dcterms:created>
  <dc:creator>lnelson</dc:creator>
  <dc:description/>
  <dc:language>en-US</dc:language>
  <cp:lastModifiedBy>Karen Mixdorf</cp:lastModifiedBy>
  <dcterms:modified xsi:type="dcterms:W3CDTF">2010-03-11T20:13:42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