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8D67-B86F-4BC1-9FD2-321E5991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A1E7-4F1C-4B66-9CAC-803AAAED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36F7-EC28-4416-91D1-86432DCD2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B970-F662-4191-8173-FB364F648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F8B5-B453-4188-B6C1-2BA767E5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3222-7665-4F37-8DBA-059679AD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091F-30DE-429A-BE37-EEF3F66B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AF1B-7F5B-4551-9A81-383846EC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0C61-FB8E-43FF-A0AA-07C54BF0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B0D9-03D3-4078-BD19-ABEB819C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C375-ADDE-498E-941E-3998BF38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9A1A-5A55-4619-B3FC-45B58F01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3437-8A43-4BF6-8532-53E84479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1CE9-18AB-47A9-BF92-73D5A597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5A30-D81D-4D8E-9978-F75A6079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5539-C12F-4768-AE6D-6C36B48CC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06DC-79BE-429A-9078-C8215E9F5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1766-D14F-4142-8C86-EBDBF0CC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169A-D256-482F-9799-C6202817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53BD-6C1B-4118-8C06-E47E7AF0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A930-C9D3-43C3-9D2C-ABFB7460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9F56-7833-4726-BD4B-9AB05571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551C-52D7-4AA7-A990-E47CD5F2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42CB-B719-4152-A7D3-B7051152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ccffcc"/>
            </a:gs>
            <a:gs pos="100000">
              <a:srgbClr val="66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3760" y="1801800"/>
            <a:ext cx="5348160" cy="5056200"/>
            <a:chOff x="3803760" y="18018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8320" y="21794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7760" y="18939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6320" y="23857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44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6040" y="55814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3800" y="24490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31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6440" y="24271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632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70560" y="28954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65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80120" y="29030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42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21480" y="29811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14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4440" y="48085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62880" y="57132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601040" y="57988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9480" y="57132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9280" y="24588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9280" y="26953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9280" y="28191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6800" y="19256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6520" y="21542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6800" y="22874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20200" y="56084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92680" y="18018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60920" y="60022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6002280" y="61592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13120" y="61592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82960" y="61056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3760" y="60991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8280" y="61405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5400" y="60260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10840" y="57322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30920" y="28270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10480" y="24652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702480" y="27795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8920" y="24397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21480" y="22683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0ADE-325F-40FC-94A8-0873B7A16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ccffcc"/>
            </a:gs>
            <a:gs pos="100000">
              <a:srgbClr val="66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4E81-A2B8-470F-B4FB-7C7022373A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Analogy Quiz</a:t>
            </a:r>
            <a:endParaRPr b="1" lang="en-US" sz="5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By teacher or student name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80"/>
                </a:solidFill>
                <a:latin typeface="Arial"/>
              </a:rPr>
              <a:t>dog : fur</a:t>
            </a:r>
            <a:r>
              <a:rPr b="1" lang="en-US" sz="44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8080"/>
                </a:solidFill>
                <a:latin typeface="Arial"/>
              </a:rPr>
              <a:t>bird :  </a:t>
            </a:r>
            <a:r>
              <a:rPr b="1" lang="en-US" sz="4400" spc="-1" strike="noStrike" u="sng">
                <a:solidFill>
                  <a:srgbClr val="008080"/>
                </a:solidFill>
                <a:uFillTx/>
                <a:latin typeface="Arial"/>
              </a:rPr>
              <a:t>?</a:t>
            </a:r>
            <a:r>
              <a:rPr b="1" lang="en-US" sz="4400" spc="-1" strike="noStrike">
                <a:solidFill>
                  <a:srgbClr val="808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55" name="AutoShape 3">
            <a:hlinkClick r:id="rId1" action="ppaction://hlinksldjump"/>
          </p:cNvPr>
          <p:cNvSpPr/>
          <p:nvPr/>
        </p:nvSpPr>
        <p:spPr>
          <a:xfrm>
            <a:off x="3429000" y="1752480"/>
            <a:ext cx="3048120" cy="457200"/>
          </a:xfrm>
          <a:custGeom>
            <a:avLst/>
            <a:gdLst>
              <a:gd name="textAreaLeft" fmla="*/ 29520 w 3048120"/>
              <a:gd name="textAreaRight" fmla="*/ 3018600 w 3048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43909" h="21600">
                <a:moveTo>
                  <a:pt x="0" y="0"/>
                </a:moveTo>
                <a:lnTo>
                  <a:pt x="143909" y="0"/>
                </a:lnTo>
                <a:lnTo>
                  <a:pt x="143909" y="21600"/>
                </a:lnTo>
                <a:lnTo>
                  <a:pt x="0" y="21600"/>
                </a:lnTo>
                <a:close/>
              </a:path>
              <a:path fill="lightenLess" w="143909" h="21600">
                <a:moveTo>
                  <a:pt x="0" y="0"/>
                </a:moveTo>
                <a:lnTo>
                  <a:pt x="143909" y="0"/>
                </a:lnTo>
                <a:lnTo>
                  <a:pt x="142509" y="1400"/>
                </a:lnTo>
                <a:lnTo>
                  <a:pt x="1400" y="1400"/>
                </a:lnTo>
                <a:close/>
              </a:path>
              <a:path fill="darken" w="143909" h="21600">
                <a:moveTo>
                  <a:pt x="143909" y="0"/>
                </a:moveTo>
                <a:lnTo>
                  <a:pt x="143909" y="21600"/>
                </a:lnTo>
                <a:lnTo>
                  <a:pt x="142509" y="20200"/>
                </a:lnTo>
                <a:lnTo>
                  <a:pt x="142509" y="1400"/>
                </a:lnTo>
                <a:close/>
              </a:path>
              <a:path fill="darkenLess" w="143909" h="21600">
                <a:moveTo>
                  <a:pt x="143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509" y="20200"/>
                </a:lnTo>
                <a:close/>
              </a:path>
              <a:path fill="lighten" w="143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blue j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AutoShape 4">
            <a:hlinkClick r:id="rId2" action="ppaction://hlinksldjump"/>
          </p:cNvPr>
          <p:cNvSpPr/>
          <p:nvPr/>
        </p:nvSpPr>
        <p:spPr>
          <a:xfrm>
            <a:off x="3429000" y="3581280"/>
            <a:ext cx="3048120" cy="457200"/>
          </a:xfrm>
          <a:custGeom>
            <a:avLst/>
            <a:gdLst>
              <a:gd name="textAreaLeft" fmla="*/ 29520 w 3048120"/>
              <a:gd name="textAreaRight" fmla="*/ 3018600 w 3048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43909" h="21600">
                <a:moveTo>
                  <a:pt x="0" y="0"/>
                </a:moveTo>
                <a:lnTo>
                  <a:pt x="143909" y="0"/>
                </a:lnTo>
                <a:lnTo>
                  <a:pt x="143909" y="21600"/>
                </a:lnTo>
                <a:lnTo>
                  <a:pt x="0" y="21600"/>
                </a:lnTo>
                <a:close/>
              </a:path>
              <a:path fill="lightenLess" w="143909" h="21600">
                <a:moveTo>
                  <a:pt x="0" y="0"/>
                </a:moveTo>
                <a:lnTo>
                  <a:pt x="143909" y="0"/>
                </a:lnTo>
                <a:lnTo>
                  <a:pt x="142509" y="1400"/>
                </a:lnTo>
                <a:lnTo>
                  <a:pt x="1400" y="1400"/>
                </a:lnTo>
                <a:close/>
              </a:path>
              <a:path fill="darken" w="143909" h="21600">
                <a:moveTo>
                  <a:pt x="143909" y="0"/>
                </a:moveTo>
                <a:lnTo>
                  <a:pt x="143909" y="21600"/>
                </a:lnTo>
                <a:lnTo>
                  <a:pt x="142509" y="20200"/>
                </a:lnTo>
                <a:lnTo>
                  <a:pt x="142509" y="1400"/>
                </a:lnTo>
                <a:close/>
              </a:path>
              <a:path fill="darkenLess" w="143909" h="21600">
                <a:moveTo>
                  <a:pt x="143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509" y="20200"/>
                </a:lnTo>
                <a:close/>
              </a:path>
              <a:path fill="lighten" w="143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feath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AutoShape 5">
            <a:hlinkClick r:id="rId3" action="ppaction://hlinksldjump"/>
          </p:cNvPr>
          <p:cNvSpPr/>
          <p:nvPr/>
        </p:nvSpPr>
        <p:spPr>
          <a:xfrm>
            <a:off x="3429000" y="2666880"/>
            <a:ext cx="3048120" cy="457200"/>
          </a:xfrm>
          <a:custGeom>
            <a:avLst/>
            <a:gdLst>
              <a:gd name="textAreaLeft" fmla="*/ 29520 w 3048120"/>
              <a:gd name="textAreaRight" fmla="*/ 3018600 w 3048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43909" h="21600">
                <a:moveTo>
                  <a:pt x="0" y="0"/>
                </a:moveTo>
                <a:lnTo>
                  <a:pt x="143909" y="0"/>
                </a:lnTo>
                <a:lnTo>
                  <a:pt x="143909" y="21600"/>
                </a:lnTo>
                <a:lnTo>
                  <a:pt x="0" y="21600"/>
                </a:lnTo>
                <a:close/>
              </a:path>
              <a:path fill="lightenLess" w="143909" h="21600">
                <a:moveTo>
                  <a:pt x="0" y="0"/>
                </a:moveTo>
                <a:lnTo>
                  <a:pt x="143909" y="0"/>
                </a:lnTo>
                <a:lnTo>
                  <a:pt x="142509" y="1400"/>
                </a:lnTo>
                <a:lnTo>
                  <a:pt x="1400" y="1400"/>
                </a:lnTo>
                <a:close/>
              </a:path>
              <a:path fill="darken" w="143909" h="21600">
                <a:moveTo>
                  <a:pt x="143909" y="0"/>
                </a:moveTo>
                <a:lnTo>
                  <a:pt x="143909" y="21600"/>
                </a:lnTo>
                <a:lnTo>
                  <a:pt x="142509" y="20200"/>
                </a:lnTo>
                <a:lnTo>
                  <a:pt x="142509" y="1400"/>
                </a:lnTo>
                <a:close/>
              </a:path>
              <a:path fill="darkenLess" w="143909" h="21600">
                <a:moveTo>
                  <a:pt x="143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509" y="20200"/>
                </a:lnTo>
                <a:close/>
              </a:path>
              <a:path fill="lighten" w="143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sk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3429000" y="4572000"/>
            <a:ext cx="3048120" cy="457200"/>
          </a:xfrm>
          <a:custGeom>
            <a:avLst/>
            <a:gdLst>
              <a:gd name="textAreaLeft" fmla="*/ 29520 w 3048120"/>
              <a:gd name="textAreaRight" fmla="*/ 3018600 w 3048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43909" h="21600">
                <a:moveTo>
                  <a:pt x="0" y="0"/>
                </a:moveTo>
                <a:lnTo>
                  <a:pt x="143909" y="0"/>
                </a:lnTo>
                <a:lnTo>
                  <a:pt x="143909" y="21600"/>
                </a:lnTo>
                <a:lnTo>
                  <a:pt x="0" y="21600"/>
                </a:lnTo>
                <a:close/>
              </a:path>
              <a:path fill="lightenLess" w="143909" h="21600">
                <a:moveTo>
                  <a:pt x="0" y="0"/>
                </a:moveTo>
                <a:lnTo>
                  <a:pt x="143909" y="0"/>
                </a:lnTo>
                <a:lnTo>
                  <a:pt x="142509" y="1400"/>
                </a:lnTo>
                <a:lnTo>
                  <a:pt x="1400" y="1400"/>
                </a:lnTo>
                <a:close/>
              </a:path>
              <a:path fill="darken" w="143909" h="21600">
                <a:moveTo>
                  <a:pt x="143909" y="0"/>
                </a:moveTo>
                <a:lnTo>
                  <a:pt x="143909" y="21600"/>
                </a:lnTo>
                <a:lnTo>
                  <a:pt x="142509" y="20200"/>
                </a:lnTo>
                <a:lnTo>
                  <a:pt x="142509" y="1400"/>
                </a:lnTo>
                <a:close/>
              </a:path>
              <a:path fill="darkenLess" w="143909" h="21600">
                <a:moveTo>
                  <a:pt x="143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509" y="20200"/>
                </a:lnTo>
                <a:close/>
              </a:path>
              <a:path fill="lighten" w="143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mamm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AutoShape 8">
            <a:hlinkClick r:id="" action="ppaction://hlinkshowjump?jump=nextslide"/>
          </p:cNvPr>
          <p:cNvSpPr/>
          <p:nvPr/>
        </p:nvSpPr>
        <p:spPr>
          <a:xfrm>
            <a:off x="4495680" y="57913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380880" y="1371600"/>
            <a:ext cx="281952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s is an example slide. You can delete this slid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 use this template copy and paste slide #3 as many times as needed.  On each slide type in your own analogy question at the top of the slide and type in 3 incorrect and one correct answer buttons.  Move the order of the correct answer by dragging the answer buttons into different order on the slid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6705720" y="1676520"/>
            <a:ext cx="220968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You can also change the slide design and the colors by using the Format menu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n the very last analogy slide you may delete the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butt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80"/>
                </a:solidFill>
                <a:latin typeface="Arial"/>
              </a:rPr>
              <a:t>word : word</a:t>
            </a:r>
            <a:r>
              <a:rPr b="1" lang="en-US" sz="44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8080"/>
                </a:solidFill>
                <a:latin typeface="Arial"/>
              </a:rPr>
              <a:t>word :  </a:t>
            </a:r>
            <a:r>
              <a:rPr b="1" lang="en-US" sz="4400" spc="-1" strike="noStrike" u="sng">
                <a:solidFill>
                  <a:srgbClr val="008080"/>
                </a:solidFill>
                <a:uFillTx/>
                <a:latin typeface="Arial"/>
              </a:rPr>
              <a:t>?</a:t>
            </a:r>
            <a:r>
              <a:rPr b="1" lang="en-US" sz="4400" spc="-1" strike="noStrike">
                <a:solidFill>
                  <a:srgbClr val="808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3429000" y="1752480"/>
            <a:ext cx="3048120" cy="457200"/>
          </a:xfrm>
          <a:custGeom>
            <a:avLst/>
            <a:gdLst>
              <a:gd name="textAreaLeft" fmla="*/ 29520 w 3048120"/>
              <a:gd name="textAreaRight" fmla="*/ 3018600 w 3048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43909" h="21600">
                <a:moveTo>
                  <a:pt x="0" y="0"/>
                </a:moveTo>
                <a:lnTo>
                  <a:pt x="143909" y="0"/>
                </a:lnTo>
                <a:lnTo>
                  <a:pt x="143909" y="21600"/>
                </a:lnTo>
                <a:lnTo>
                  <a:pt x="0" y="21600"/>
                </a:lnTo>
                <a:close/>
              </a:path>
              <a:path fill="lightenLess" w="143909" h="21600">
                <a:moveTo>
                  <a:pt x="0" y="0"/>
                </a:moveTo>
                <a:lnTo>
                  <a:pt x="143909" y="0"/>
                </a:lnTo>
                <a:lnTo>
                  <a:pt x="142509" y="1400"/>
                </a:lnTo>
                <a:lnTo>
                  <a:pt x="1400" y="1400"/>
                </a:lnTo>
                <a:close/>
              </a:path>
              <a:path fill="darken" w="143909" h="21600">
                <a:moveTo>
                  <a:pt x="143909" y="0"/>
                </a:moveTo>
                <a:lnTo>
                  <a:pt x="143909" y="21600"/>
                </a:lnTo>
                <a:lnTo>
                  <a:pt x="142509" y="20200"/>
                </a:lnTo>
                <a:lnTo>
                  <a:pt x="142509" y="1400"/>
                </a:lnTo>
                <a:close/>
              </a:path>
              <a:path fill="darkenLess" w="143909" h="21600">
                <a:moveTo>
                  <a:pt x="143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509" y="20200"/>
                </a:lnTo>
                <a:close/>
              </a:path>
              <a:path fill="lighten" w="143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Incorrect analo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3429000" y="3581280"/>
            <a:ext cx="3048120" cy="457200"/>
          </a:xfrm>
          <a:custGeom>
            <a:avLst/>
            <a:gdLst>
              <a:gd name="textAreaLeft" fmla="*/ 29520 w 3048120"/>
              <a:gd name="textAreaRight" fmla="*/ 3018600 w 3048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43909" h="21600">
                <a:moveTo>
                  <a:pt x="0" y="0"/>
                </a:moveTo>
                <a:lnTo>
                  <a:pt x="143909" y="0"/>
                </a:lnTo>
                <a:lnTo>
                  <a:pt x="143909" y="21600"/>
                </a:lnTo>
                <a:lnTo>
                  <a:pt x="0" y="21600"/>
                </a:lnTo>
                <a:close/>
              </a:path>
              <a:path fill="lightenLess" w="143909" h="21600">
                <a:moveTo>
                  <a:pt x="0" y="0"/>
                </a:moveTo>
                <a:lnTo>
                  <a:pt x="143909" y="0"/>
                </a:lnTo>
                <a:lnTo>
                  <a:pt x="142509" y="1400"/>
                </a:lnTo>
                <a:lnTo>
                  <a:pt x="1400" y="1400"/>
                </a:lnTo>
                <a:close/>
              </a:path>
              <a:path fill="darken" w="143909" h="21600">
                <a:moveTo>
                  <a:pt x="143909" y="0"/>
                </a:moveTo>
                <a:lnTo>
                  <a:pt x="143909" y="21600"/>
                </a:lnTo>
                <a:lnTo>
                  <a:pt x="142509" y="20200"/>
                </a:lnTo>
                <a:lnTo>
                  <a:pt x="142509" y="1400"/>
                </a:lnTo>
                <a:close/>
              </a:path>
              <a:path fill="darkenLess" w="143909" h="21600">
                <a:moveTo>
                  <a:pt x="143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509" y="20200"/>
                </a:lnTo>
                <a:close/>
              </a:path>
              <a:path fill="lighten" w="143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Correct analo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AutoShape 9"/>
          <p:cNvSpPr/>
          <p:nvPr/>
        </p:nvSpPr>
        <p:spPr>
          <a:xfrm>
            <a:off x="3429000" y="2666880"/>
            <a:ext cx="3048120" cy="457200"/>
          </a:xfrm>
          <a:custGeom>
            <a:avLst/>
            <a:gdLst>
              <a:gd name="textAreaLeft" fmla="*/ 29520 w 3048120"/>
              <a:gd name="textAreaRight" fmla="*/ 3018600 w 3048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43909" h="21600">
                <a:moveTo>
                  <a:pt x="0" y="0"/>
                </a:moveTo>
                <a:lnTo>
                  <a:pt x="143909" y="0"/>
                </a:lnTo>
                <a:lnTo>
                  <a:pt x="143909" y="21600"/>
                </a:lnTo>
                <a:lnTo>
                  <a:pt x="0" y="21600"/>
                </a:lnTo>
                <a:close/>
              </a:path>
              <a:path fill="lightenLess" w="143909" h="21600">
                <a:moveTo>
                  <a:pt x="0" y="0"/>
                </a:moveTo>
                <a:lnTo>
                  <a:pt x="143909" y="0"/>
                </a:lnTo>
                <a:lnTo>
                  <a:pt x="142509" y="1400"/>
                </a:lnTo>
                <a:lnTo>
                  <a:pt x="1400" y="1400"/>
                </a:lnTo>
                <a:close/>
              </a:path>
              <a:path fill="darken" w="143909" h="21600">
                <a:moveTo>
                  <a:pt x="143909" y="0"/>
                </a:moveTo>
                <a:lnTo>
                  <a:pt x="143909" y="21600"/>
                </a:lnTo>
                <a:lnTo>
                  <a:pt x="142509" y="20200"/>
                </a:lnTo>
                <a:lnTo>
                  <a:pt x="142509" y="1400"/>
                </a:lnTo>
                <a:close/>
              </a:path>
              <a:path fill="darkenLess" w="143909" h="21600">
                <a:moveTo>
                  <a:pt x="143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509" y="20200"/>
                </a:lnTo>
                <a:close/>
              </a:path>
              <a:path fill="lighten" w="143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Incorrect analo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AutoShape 10"/>
          <p:cNvSpPr/>
          <p:nvPr/>
        </p:nvSpPr>
        <p:spPr>
          <a:xfrm>
            <a:off x="3429000" y="4572000"/>
            <a:ext cx="3048120" cy="457200"/>
          </a:xfrm>
          <a:custGeom>
            <a:avLst/>
            <a:gdLst>
              <a:gd name="textAreaLeft" fmla="*/ 29520 w 3048120"/>
              <a:gd name="textAreaRight" fmla="*/ 3018600 w 3048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43909" h="21600">
                <a:moveTo>
                  <a:pt x="0" y="0"/>
                </a:moveTo>
                <a:lnTo>
                  <a:pt x="143909" y="0"/>
                </a:lnTo>
                <a:lnTo>
                  <a:pt x="143909" y="21600"/>
                </a:lnTo>
                <a:lnTo>
                  <a:pt x="0" y="21600"/>
                </a:lnTo>
                <a:close/>
              </a:path>
              <a:path fill="lightenLess" w="143909" h="21600">
                <a:moveTo>
                  <a:pt x="0" y="0"/>
                </a:moveTo>
                <a:lnTo>
                  <a:pt x="143909" y="0"/>
                </a:lnTo>
                <a:lnTo>
                  <a:pt x="142509" y="1400"/>
                </a:lnTo>
                <a:lnTo>
                  <a:pt x="1400" y="1400"/>
                </a:lnTo>
                <a:close/>
              </a:path>
              <a:path fill="darken" w="143909" h="21600">
                <a:moveTo>
                  <a:pt x="143909" y="0"/>
                </a:moveTo>
                <a:lnTo>
                  <a:pt x="143909" y="21600"/>
                </a:lnTo>
                <a:lnTo>
                  <a:pt x="142509" y="20200"/>
                </a:lnTo>
                <a:lnTo>
                  <a:pt x="142509" y="1400"/>
                </a:lnTo>
                <a:close/>
              </a:path>
              <a:path fill="darkenLess" w="143909" h="21600">
                <a:moveTo>
                  <a:pt x="143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509" y="20200"/>
                </a:lnTo>
                <a:close/>
              </a:path>
              <a:path fill="lighten" w="143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Incorrect analo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AutoShape 12">
            <a:hlinkClick r:id="" action="ppaction://hlinkshowjump?jump=nextslide"/>
          </p:cNvPr>
          <p:cNvSpPr/>
          <p:nvPr/>
        </p:nvSpPr>
        <p:spPr>
          <a:xfrm>
            <a:off x="4495680" y="57913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4"/>
          <p:cNvSpPr txBox="1"/>
          <p:nvPr/>
        </p:nvSpPr>
        <p:spPr>
          <a:xfrm>
            <a:off x="2286000" y="2133720"/>
            <a:ext cx="4896000" cy="28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Sor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r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69" name="AutoShape 5">
            <a:hlinkClick r:id="" action="ppaction://hlinkshowjump?jump=previousslide"/>
          </p:cNvPr>
          <p:cNvSpPr/>
          <p:nvPr/>
        </p:nvSpPr>
        <p:spPr>
          <a:xfrm>
            <a:off x="4495680" y="5638680"/>
            <a:ext cx="914400" cy="60984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2381" h="21600">
                <a:moveTo>
                  <a:pt x="0" y="0"/>
                </a:moveTo>
                <a:lnTo>
                  <a:pt x="32381" y="0"/>
                </a:lnTo>
                <a:lnTo>
                  <a:pt x="32381" y="21600"/>
                </a:lnTo>
                <a:lnTo>
                  <a:pt x="0" y="21600"/>
                </a:lnTo>
                <a:close/>
              </a:path>
              <a:path fill="lightenLess" w="32381" h="21600">
                <a:moveTo>
                  <a:pt x="0" y="0"/>
                </a:moveTo>
                <a:lnTo>
                  <a:pt x="32381" y="0"/>
                </a:lnTo>
                <a:lnTo>
                  <a:pt x="30981" y="1400"/>
                </a:lnTo>
                <a:lnTo>
                  <a:pt x="1400" y="1400"/>
                </a:lnTo>
                <a:close/>
              </a:path>
              <a:path fill="darken" w="32381" h="21600">
                <a:moveTo>
                  <a:pt x="32381" y="0"/>
                </a:moveTo>
                <a:lnTo>
                  <a:pt x="32381" y="21600"/>
                </a:lnTo>
                <a:lnTo>
                  <a:pt x="30981" y="20200"/>
                </a:lnTo>
                <a:lnTo>
                  <a:pt x="30981" y="1400"/>
                </a:lnTo>
                <a:close/>
              </a:path>
              <a:path fill="darkenLess" w="32381" h="21600">
                <a:moveTo>
                  <a:pt x="32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1" y="20200"/>
                </a:lnTo>
                <a:close/>
              </a:path>
              <a:path fill="lighten" w="32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1" h="21600">
                <a:moveTo>
                  <a:pt x="9184" y="10800"/>
                </a:moveTo>
                <a:lnTo>
                  <a:pt x="23197" y="3794"/>
                </a:lnTo>
                <a:lnTo>
                  <a:pt x="23197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4"/>
          <p:cNvSpPr txBox="1"/>
          <p:nvPr/>
        </p:nvSpPr>
        <p:spPr>
          <a:xfrm>
            <a:off x="2286000" y="1981080"/>
            <a:ext cx="5070600" cy="276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339966"/>
                    </a:gs>
                    <a:gs pos="50000">
                      <a:srgbClr val="18472f"/>
                    </a:gs>
                    <a:gs pos="100000">
                      <a:srgbClr val="339966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Forte"/>
              </a:rPr>
              <a:t>Correct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339966"/>
                  </a:gs>
                  <a:gs pos="50000">
                    <a:srgbClr val="18472f"/>
                  </a:gs>
                  <a:gs pos="100000">
                    <a:srgbClr val="339966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Forte"/>
              <a:ea typeface="Forte"/>
            </a:endParaRPr>
          </a:p>
        </p:txBody>
      </p:sp>
      <p:sp>
        <p:nvSpPr>
          <p:cNvPr id="171" name="AutoShape 5">
            <a:hlinkClick r:id="" action="ppaction://hlinkshowjump?jump=previousslide"/>
          </p:cNvPr>
          <p:cNvSpPr/>
          <p:nvPr/>
        </p:nvSpPr>
        <p:spPr>
          <a:xfrm>
            <a:off x="4495680" y="54864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20:39:15Z</dcterms:created>
  <dc:creator>lnelson</dc:creator>
  <dc:description/>
  <dc:language>en-US</dc:language>
  <cp:lastModifiedBy>Karen Mixdorf</cp:lastModifiedBy>
  <dcterms:modified xsi:type="dcterms:W3CDTF">2010-03-11T20:13:42Z</dcterms:modified>
  <cp:revision>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