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176A-D07C-4D7C-98FA-3C0B4E1A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4C1E-A127-4108-8FCC-3BD30700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E923-94F7-4AA8-812C-2C7A89453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D5D-9AAA-4AEA-B8C6-B9F4ED17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7675-44E9-435F-8F3E-61E55860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532B-FFD2-4BC0-BA59-A577A3D2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98CC-2405-4448-858E-E1FDE27FA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8704-4140-4DB8-B552-CC679E3E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C69D-68B0-4FD6-B244-B843CF6A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0C80-D08F-4D1E-9D3C-2BDB14B9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F49F-6D32-4280-B6C1-4FC35DFF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AB38-2316-4502-B5AF-447AC06D7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FCDC5-6687-482D-AD41-CA3EAF0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634F-7262-4C68-BF16-859C06C9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30065-D6E0-4F63-9D40-1892E6B86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D6B7-A276-432D-AFA3-A82BEB928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E64A-1DD3-4661-89BA-E308A845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209F-CCE3-44E1-8ED6-98272C61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F88B-858A-4A0E-A88B-0EB822FBD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02A-DDEB-476D-98B9-7FE9B369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BA3-73E8-47E4-839C-9A1C3C94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2F15-43AD-4D7D-B1ED-9C141A36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A990-9A4B-4BB2-8D54-4B58C265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389-9EB7-4004-8417-9E63CC39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ccffcc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3760" y="1801800"/>
            <a:ext cx="5348160" cy="5056200"/>
            <a:chOff x="3803760" y="18018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8320" y="21794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7760" y="18939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6320" y="23857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44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6040" y="55814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3800" y="24490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31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6440" y="24271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632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70560" y="28954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65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80120" y="29030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428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21480" y="29811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14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4440" y="48085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62880" y="57132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601040" y="57988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9480" y="57132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9280" y="24588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9280" y="26953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9280" y="28191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6800" y="19256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6520" y="21542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6800" y="22874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20200" y="56084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92680" y="18018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60920" y="60022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6002280" y="61592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13120" y="61592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82960" y="61056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3760" y="60991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8280" y="61405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5400" y="60260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10840" y="57322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30920" y="28270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10480" y="24652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702480" y="27795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8920" y="24397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21480" y="22683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f99"/>
                </a:gs>
                <a:gs pos="50000">
                  <a:srgbClr val="96ffd5"/>
                </a:gs>
                <a:gs pos="100000">
                  <a:srgbClr val="00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C95C-CA4D-4AE2-8A27-C90AEB365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50000">
              <a:srgbClr val="ccffcc"/>
            </a:gs>
            <a:gs pos="100000">
              <a:srgbClr val="66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>
                <a:gd name="textAreaLeft" fmla="*/ 0 w 988920"/>
                <a:gd name="textAreaRight" fmla="*/ 988920 w 98892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>
                <a:gd name="textAreaLeft" fmla="*/ 0 w 1581120"/>
                <a:gd name="textAreaRight" fmla="*/ 1581480 w 1581120"/>
                <a:gd name="textAreaTop" fmla="*/ 0 h 200160"/>
                <a:gd name="textAreaBottom" fmla="*/ 200520 h 200160"/>
              </a:gdLst>
              <a:ahLst/>
              <a:rect l="textAreaLeft" t="textAreaTop" r="textAreaRight" b="textAreaBottom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389160"/>
                <a:gd name="textAreaBottom" fmla="*/ 389520 h 389160"/>
              </a:gdLst>
              <a:ahLst/>
              <a:rect l="textAreaLeft" t="textAreaTop" r="textAreaRight" b="textAreaBottom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>
                <a:gd name="textAreaLeft" fmla="*/ 0 w 1514520"/>
                <a:gd name="textAreaRight" fmla="*/ 1514880 w 151452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247680"/>
                <a:gd name="textAreaBottom" fmla="*/ 248040 h 247680"/>
              </a:gdLst>
              <a:ahLst/>
              <a:rect l="textAreaLeft" t="textAreaTop" r="textAreaRight" b="textAreaBottom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>
                <a:gd name="textAreaLeft" fmla="*/ 0 w 4132440"/>
                <a:gd name="textAreaRight" fmla="*/ 4132440 w 413244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>
                <a:gd name="textAreaLeft" fmla="*/ 0 w 142920"/>
                <a:gd name="textAreaRight" fmla="*/ 143280 w 14292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2502000"/>
                <a:gd name="textAreaBottom" fmla="*/ 2502360 h 2502000"/>
              </a:gdLst>
              <a:ahLst/>
              <a:rect l="textAreaLeft" t="textAreaTop" r="textAreaRight" b="textAreaBottom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>
                <a:gd name="textAreaLeft" fmla="*/ 0 w 503280"/>
                <a:gd name="textAreaRight" fmla="*/ 503640 w 503280"/>
                <a:gd name="textAreaTop" fmla="*/ 0 h 219240"/>
                <a:gd name="textAreaBottom" fmla="*/ 219600 h 219240"/>
              </a:gdLst>
              <a:ahLst/>
              <a:rect l="textAreaLeft" t="textAreaTop" r="textAreaRight" b="textAreaBottom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C46F-21B2-4D65-9B39-3961D720FA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66"/>
                </a:solidFill>
                <a:latin typeface="Arial"/>
              </a:rPr>
              <a:t>Analogy Quiz</a:t>
            </a:r>
            <a:endParaRPr b="1" lang="en-US" sz="5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66"/>
                </a:solidFill>
                <a:latin typeface="Tahoma"/>
              </a:rPr>
              <a:t>By teacher or student name</a:t>
            </a:r>
            <a:endParaRPr b="0" lang="en-US" sz="32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dog : fur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bird :  </a:t>
            </a:r>
            <a:r>
              <a:rPr b="1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?</a:t>
            </a: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55" name="AutoShape 3">
            <a:hlinkClick r:id="rId1" action="ppaction://hlinksldjump"/>
          </p:cNvPr>
          <p:cNvSpPr/>
          <p:nvPr/>
        </p:nvSpPr>
        <p:spPr>
          <a:xfrm>
            <a:off x="3429000" y="17524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blue j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AutoShape 4">
            <a:hlinkClick r:id="rId2" action="ppaction://hlinksldjump"/>
          </p:cNvPr>
          <p:cNvSpPr/>
          <p:nvPr/>
        </p:nvSpPr>
        <p:spPr>
          <a:xfrm>
            <a:off x="3429000" y="35812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feath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AutoShape 5">
            <a:hlinkClick r:id="rId3" action="ppaction://hlinksldjump"/>
          </p:cNvPr>
          <p:cNvSpPr/>
          <p:nvPr/>
        </p:nvSpPr>
        <p:spPr>
          <a:xfrm>
            <a:off x="3429000" y="26668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ski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3429000" y="457200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mamm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AutoShape 8">
            <a:hlinkClick r:id="" action="ppaction://hlinkshowjump?jump=nextslide"/>
          </p:cNvPr>
          <p:cNvSpPr/>
          <p:nvPr/>
        </p:nvSpPr>
        <p:spPr>
          <a:xfrm>
            <a:off x="4495680" y="57913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80880" y="1371600"/>
            <a:ext cx="281952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s is an example slide. You can delete this sl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use this template copy and paste slide #3 as many times as needed.  On each slide type in your own analogy question at the top of the slide and type in 3 incorrect and one correct answer buttons.  Move the order of the correct answer by dragging the answer buttons into different order on the slid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6705720" y="1676520"/>
            <a:ext cx="220968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You can also change the slide design and the colors by using the Format menu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n the very last analogy slide you may delete the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Nex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butto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word : word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8080"/>
                </a:solidFill>
                <a:latin typeface="Arial"/>
              </a:rPr>
              <a:t>word :  </a:t>
            </a:r>
            <a:r>
              <a:rPr b="1" lang="en-US" sz="4400" spc="-1" strike="noStrike" u="sng">
                <a:solidFill>
                  <a:srgbClr val="008080"/>
                </a:solidFill>
                <a:uFillTx/>
                <a:latin typeface="Arial"/>
              </a:rPr>
              <a:t>?</a:t>
            </a:r>
            <a:r>
              <a:rPr b="1" lang="en-US" sz="4400" spc="-1" strike="noStrike">
                <a:solidFill>
                  <a:srgbClr val="8080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29000" y="17524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3429000" y="35812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AutoShape 9"/>
          <p:cNvSpPr/>
          <p:nvPr/>
        </p:nvSpPr>
        <p:spPr>
          <a:xfrm>
            <a:off x="3429000" y="266688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AutoShape 10"/>
          <p:cNvSpPr/>
          <p:nvPr/>
        </p:nvSpPr>
        <p:spPr>
          <a:xfrm>
            <a:off x="3429000" y="4572000"/>
            <a:ext cx="3048120" cy="457200"/>
          </a:xfrm>
          <a:custGeom>
            <a:avLst/>
            <a:gdLst>
              <a:gd name="textAreaLeft" fmla="*/ 29520 w 3048120"/>
              <a:gd name="textAreaRight" fmla="*/ 3018600 w 3048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43909" h="21600">
                <a:moveTo>
                  <a:pt x="0" y="0"/>
                </a:moveTo>
                <a:lnTo>
                  <a:pt x="143909" y="0"/>
                </a:lnTo>
                <a:lnTo>
                  <a:pt x="143909" y="21600"/>
                </a:lnTo>
                <a:lnTo>
                  <a:pt x="0" y="21600"/>
                </a:lnTo>
                <a:close/>
              </a:path>
              <a:path fill="lightenLess" w="143909" h="21600">
                <a:moveTo>
                  <a:pt x="0" y="0"/>
                </a:moveTo>
                <a:lnTo>
                  <a:pt x="143909" y="0"/>
                </a:lnTo>
                <a:lnTo>
                  <a:pt x="142509" y="1400"/>
                </a:lnTo>
                <a:lnTo>
                  <a:pt x="1400" y="1400"/>
                </a:lnTo>
                <a:close/>
              </a:path>
              <a:path fill="darken" w="143909" h="21600">
                <a:moveTo>
                  <a:pt x="143909" y="0"/>
                </a:moveTo>
                <a:lnTo>
                  <a:pt x="143909" y="21600"/>
                </a:lnTo>
                <a:lnTo>
                  <a:pt x="142509" y="20200"/>
                </a:lnTo>
                <a:lnTo>
                  <a:pt x="142509" y="1400"/>
                </a:lnTo>
                <a:close/>
              </a:path>
              <a:path fill="darkenLess" w="143909" h="21600">
                <a:moveTo>
                  <a:pt x="143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2509" y="20200"/>
                </a:lnTo>
                <a:close/>
              </a:path>
              <a:path fill="lighten" w="143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Tahoma"/>
              </a:rPr>
              <a:t>Incorrect ana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AutoShape 12">
            <a:hlinkClick r:id="" action="ppaction://hlinkshowjump?jump=nextslide"/>
          </p:cNvPr>
          <p:cNvSpPr/>
          <p:nvPr/>
        </p:nvSpPr>
        <p:spPr>
          <a:xfrm>
            <a:off x="4495680" y="5791320"/>
            <a:ext cx="990720" cy="685800"/>
          </a:xfrm>
          <a:prstGeom prst="rightArrow">
            <a:avLst>
              <a:gd name="adj1" fmla="val 50000"/>
              <a:gd name="adj2" fmla="val 36115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ex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WordArt 4"/>
          <p:cNvSpPr txBox="1"/>
          <p:nvPr/>
        </p:nvSpPr>
        <p:spPr>
          <a:xfrm>
            <a:off x="2286000" y="2133720"/>
            <a:ext cx="4896000" cy="28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or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Try aga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69" name="AutoShape 5">
            <a:hlinkClick r:id="" action="ppaction://hlinkshowjump?jump=previousslide"/>
          </p:cNvPr>
          <p:cNvSpPr/>
          <p:nvPr/>
        </p:nvSpPr>
        <p:spPr>
          <a:xfrm>
            <a:off x="4495680" y="5638680"/>
            <a:ext cx="914400" cy="60984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32381" h="21600">
                <a:moveTo>
                  <a:pt x="0" y="0"/>
                </a:moveTo>
                <a:lnTo>
                  <a:pt x="32381" y="0"/>
                </a:lnTo>
                <a:lnTo>
                  <a:pt x="32381" y="21600"/>
                </a:lnTo>
                <a:lnTo>
                  <a:pt x="0" y="21600"/>
                </a:lnTo>
                <a:close/>
              </a:path>
              <a:path fill="lightenLess" w="32381" h="21600">
                <a:moveTo>
                  <a:pt x="0" y="0"/>
                </a:moveTo>
                <a:lnTo>
                  <a:pt x="32381" y="0"/>
                </a:lnTo>
                <a:lnTo>
                  <a:pt x="30981" y="1400"/>
                </a:lnTo>
                <a:lnTo>
                  <a:pt x="1400" y="1400"/>
                </a:lnTo>
                <a:close/>
              </a:path>
              <a:path fill="darken" w="32381" h="21600">
                <a:moveTo>
                  <a:pt x="32381" y="0"/>
                </a:moveTo>
                <a:lnTo>
                  <a:pt x="32381" y="21600"/>
                </a:lnTo>
                <a:lnTo>
                  <a:pt x="30981" y="20200"/>
                </a:lnTo>
                <a:lnTo>
                  <a:pt x="30981" y="1400"/>
                </a:lnTo>
                <a:close/>
              </a:path>
              <a:path fill="darkenLess" w="32381" h="21600">
                <a:moveTo>
                  <a:pt x="32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81" y="20200"/>
                </a:lnTo>
                <a:close/>
              </a:path>
              <a:path fill="lighten" w="32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81" h="21600">
                <a:moveTo>
                  <a:pt x="9184" y="10800"/>
                </a:moveTo>
                <a:lnTo>
                  <a:pt x="23197" y="3794"/>
                </a:lnTo>
                <a:lnTo>
                  <a:pt x="23197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4"/>
          <p:cNvSpPr txBox="1"/>
          <p:nvPr/>
        </p:nvSpPr>
        <p:spPr>
          <a:xfrm>
            <a:off x="2286000" y="1981080"/>
            <a:ext cx="5070600" cy="276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50000">
                      <a:srgbClr val="18472f"/>
                    </a:gs>
                    <a:gs pos="100000">
                      <a:srgbClr val="339966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Forte"/>
              </a:rPr>
              <a:t>Correct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50000">
                    <a:srgbClr val="18472f"/>
                  </a:gs>
                  <a:gs pos="100000">
                    <a:srgbClr val="339966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Forte"/>
              <a:ea typeface="Forte"/>
            </a:endParaRPr>
          </a:p>
        </p:txBody>
      </p:sp>
      <p:sp>
        <p:nvSpPr>
          <p:cNvPr id="171" name="AutoShape 5">
            <a:hlinkClick r:id="" action="ppaction://hlinkshowjump?jump=previousslide"/>
          </p:cNvPr>
          <p:cNvSpPr/>
          <p:nvPr/>
        </p:nvSpPr>
        <p:spPr>
          <a:xfrm>
            <a:off x="4495680" y="548640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10800"/>
                </a:moveTo>
                <a:lnTo>
                  <a:pt x="22606" y="3794"/>
                </a:lnTo>
                <a:lnTo>
                  <a:pt x="22606" y="17806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3T20:39:15Z</dcterms:created>
  <dc:creator>lnelson</dc:creator>
  <dc:description/>
  <dc:language>en-US</dc:language>
  <cp:lastModifiedBy>Karen Mixdorf</cp:lastModifiedBy>
  <dcterms:modified xsi:type="dcterms:W3CDTF">2010-03-11T20:13:42Z</dcterms:modified>
  <cp:revision>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